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BA70-4F13-4261-A36B-E8338FCED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FBCA-665D-4534-A4FC-396701FFF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AD8C-03E3-4248-BBB6-B81930890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B198-2D4B-4F83-81C2-020EFE049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71EB7-277B-47C2-943B-D1D0C7BA9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95A3B-9CF5-495C-AF07-27945918D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ADF96-7280-4878-B0D5-9065F494D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1D147-5ECB-41BE-BED4-9620835F8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4C259-1D3C-4C23-BE39-22C2E7BCE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0A0D2-28A2-48EF-8029-C83D131FD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7D7D4-CB25-407E-B937-75631E2FF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769C-A430-4C50-8345-078B695D0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CB500-339D-4F27-B1D4-4251577DE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E5EEB-D55C-4009-90D1-72AEA119F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4BA53-1CEF-4A19-8A76-758D83240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80E50-1543-46BE-B7F3-118A14D62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22D59-893D-4FC1-93C3-FCD5A86E5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312E-F57F-435C-B4A5-648F34097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1952-DE2E-41D5-8B76-A94C6C9AC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B3F0-2851-457F-9E7B-31EEAC4A0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10D8-D38D-4F42-AD9E-E36DB4208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F1BA-7EC7-409A-AC6B-3FE75A93E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9880-D6A6-4C6D-A1C9-B847D3A0E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0810-AA49-4C07-9DF5-36D7DDCB3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B01E4-D45D-4610-A378-C55CA93025A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DB996-85B8-4748-8136-44390D183A4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7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장 행동관리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645000"/>
            <a:ext cx="64008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고전행동주의와 신행동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과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-S (ABC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수정의 관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거 또는 증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성취동기 향상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상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칭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흥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동기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효능감과 귀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행동수정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한 행동의 증가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토큰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할머니 법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emark Principl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계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하지 못한 행동의 감소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소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대책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학급관리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의 물리적 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조 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좌석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생활 규칙 제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질문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?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979640" y="1844640"/>
            <a:ext cx="47530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0T03:46:38Z</dcterms:created>
  <dc:creator>.</dc:creator>
  <dc:description/>
  <dc:language>en-US</dc:language>
  <cp:lastModifiedBy>f</cp:lastModifiedBy>
  <dcterms:modified xsi:type="dcterms:W3CDTF">2007-05-02T01:29:10Z</dcterms:modified>
  <cp:revision>9</cp:revision>
  <dc:subject/>
  <dc:title>제 7장 체육교육과정</dc:title>
</cp:coreProperties>
</file>